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0AB-DCBD-4740-BD99-6FF14EA4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D17-0FFC-4195-902A-8A7940D1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87E-A04A-4E00-84DE-3C7DD752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70D-83E8-466D-8A9E-B0140162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211-EDFD-49A4-B8C6-1106EF84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B55-DD8B-4E03-8956-68C370E6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31B-8523-40A7-9FAF-3DEB4E41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23C-3280-4E72-A571-EFD3F532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5FA-2069-465A-973F-E52DC96B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1A1-FACC-4809-8F98-36AD5CC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614-FF65-4120-994E-612D3205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F5B-47C3-4254-B1BF-2A402F27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46D9-865A-48E7-8183-C9D45F025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278000"/>
            <a:ext cx="9144000" cy="94176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Bookman Old Style"/>
              </a:rPr>
              <a:t>                    </a:t>
            </a:r>
            <a:r>
              <a:rPr b="1" lang="bg-BG" sz="4000" spc="-1" strike="noStrike">
                <a:solidFill>
                  <a:srgbClr val="bbe0e3"/>
                </a:solidFill>
                <a:latin typeface="Bookman Old Style"/>
              </a:rPr>
              <a:t>3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ъбота блажен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святи покой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и си славен споме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т едемски рай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как те обича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ен на мир, святост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щото донасяш небесна радос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9000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040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86280" y="664200"/>
            <a:ext cx="100566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Ела, влез в сърце м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святи ми Гост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Напомняш ми скром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райска хубост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ъбуждаш надежда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вечен живот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що Бог обещал е за Своя народ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32040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73280" y="-304560"/>
            <a:ext cx="7686360" cy="74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еб благодар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любезни ми Спас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 деня на почив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ъс радостен глас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че за мен Си седмий д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благословил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спомен навеки Си го освет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30312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1405080"/>
            <a:ext cx="9144000" cy="97063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4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ега кат живе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 световния край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иготви ни, Бож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небесний рай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ам Тебе да хвал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 ханаански език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оменени славно в небесния ли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32040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4:07:54Z</dcterms:created>
  <dc:creator>TrifonTrifonow</dc:creator>
  <dc:description/>
  <dc:language>en-US</dc:language>
  <cp:lastModifiedBy>TrifonTrifonow</cp:lastModifiedBy>
  <dcterms:modified xsi:type="dcterms:W3CDTF">2005-11-21T13:31:12Z</dcterms:modified>
  <cp:revision>19</cp:revision>
  <dc:subject/>
  <dc:title>Slide 1</dc:title>
</cp:coreProperties>
</file>